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71DB-7748-410C-ACA7-9DFBDD335B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BD1-E180-4861-8B7D-9B789481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2EB-A36A-4031-ACDE-D123D062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A6C6-764D-4C50-BB4E-B22FFA26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4DD4-44B5-4477-B559-0B57FC9A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2D47-A3E2-457F-B9A8-B34DCD96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4162-8A3D-4A85-9AB7-55820F46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DB8C-EB80-40C9-8BD8-29F4AABA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B95D-2945-4DAE-B784-52972173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F82E-0022-4B38-9BBE-8FE8C112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F6EC-EF20-4D62-BFF4-25753446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0A6B-1818-4CE7-88DD-E2512E8A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6378-90E1-4641-B0D5-986D5E7A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5E01-24FB-46DA-A247-B9D73B01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C161-18CA-4A49-B8BA-16F968C9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AE83-26A0-4782-84A6-04D6A3A1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3E22-C5B7-4A0D-A3A6-D0C98006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D1D2-F5D3-4A55-9324-88EACB53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1F8-E034-43C9-859F-F3F96672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5E21-42CC-4452-A3D2-FB56CD7E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A60-214C-4364-94CF-5A5E7B79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9890-75CE-4ABE-9768-68AAA663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AC3E-E491-4403-A33A-8693C065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F19-55DB-420E-A2B6-F37CBCF9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1D4-199A-40C6-968A-382E9483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D413-7DCD-4C76-AFB7-984E2FC436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5196-02C6-4108-BB69-1EC1B322AD42}" type="slidenum"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How do changes in the environment affect organisms?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2" name="Picture 6" descr="j0299587"/>
          <p:cNvPicPr/>
          <p:nvPr/>
        </p:nvPicPr>
        <p:blipFill>
          <a:blip r:embed="rId1"/>
          <a:stretch/>
        </p:blipFill>
        <p:spPr>
          <a:xfrm>
            <a:off x="3693960" y="3733920"/>
            <a:ext cx="1756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Comic Sans MS"/>
              </a:rPr>
              <a:t>Wilderbeas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19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Wilderbeast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migrat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ey travel hundreds of miles every winter looking for grass to eat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Grass will only grow where it rain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0" name="Picture 4" descr="mso8EF63"/>
          <p:cNvPicPr/>
          <p:nvPr/>
        </p:nvPicPr>
        <p:blipFill>
          <a:blip r:embed="rId1"/>
          <a:stretch/>
        </p:blipFill>
        <p:spPr>
          <a:xfrm>
            <a:off x="3492360" y="1341360"/>
            <a:ext cx="52563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ome insects spend winter in protective cases called pupu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is butterfly is emerging from a pup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4" name="Picture 4" descr="mso9F5D1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55260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1ddd4"/>
                </a:solidFill>
                <a:latin typeface="Comic Sans MS"/>
              </a:rPr>
              <a:t>Some plants store their food for winter underground in their roots and stems.</a:t>
            </a:r>
            <a:r>
              <a:rPr b="0" lang="en-GB" sz="40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7" name="Picture 4" descr="msoC90F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quirrels store foods like nuts in the autumn to eat during the winter when there is not much food around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1" name="Picture 4" descr="mso3389D"/>
          <p:cNvPicPr/>
          <p:nvPr/>
        </p:nvPicPr>
        <p:blipFill>
          <a:blip r:embed="rId1"/>
          <a:stretch/>
        </p:blipFill>
        <p:spPr>
          <a:xfrm>
            <a:off x="324000" y="981000"/>
            <a:ext cx="4663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ddd4"/>
                </a:solidFill>
                <a:latin typeface="Comic Sans MS"/>
              </a:rPr>
              <a:t>Some animals like tortoises, hedgehogs and bears, cannot store food to keep them warm. Instead they go to sleep in a warm sheltered place, such as undera pile of old leaves or inside an old tree trunk. This is called </a:t>
            </a:r>
            <a:r>
              <a:rPr b="0" lang="en-GB" sz="2000" spc="-1" strike="noStrike">
                <a:solidFill>
                  <a:srgbClr val="cc0000"/>
                </a:solidFill>
                <a:latin typeface="Comic Sans MS"/>
              </a:rPr>
              <a:t>hibernation.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63" name="Picture 4" descr="mso627FB"/>
          <p:cNvPicPr/>
          <p:nvPr/>
        </p:nvPicPr>
        <p:blipFill>
          <a:blip r:embed="rId1"/>
          <a:stretch/>
        </p:blipFill>
        <p:spPr>
          <a:xfrm>
            <a:off x="496800" y="1628640"/>
            <a:ext cx="3697200" cy="460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mso66EA9"/>
          <p:cNvPicPr/>
          <p:nvPr/>
        </p:nvPicPr>
        <p:blipFill>
          <a:blip r:embed="rId2"/>
          <a:stretch/>
        </p:blipFill>
        <p:spPr>
          <a:xfrm>
            <a:off x="4400640" y="1557360"/>
            <a:ext cx="3716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Arial"/>
              </a:rPr>
              <a:t>Living things are adapted to daily changes in their habitat…………….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Verdana"/>
              </a:rPr>
              <a:t>Flowers open and clo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7" name="Picture 4" descr="msoEB82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Verdana"/>
              </a:rPr>
              <a:t>Sea anemones pull in their tentacles when the tide goes out to stop them drying out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0" name="Picture 4" descr="mso263F5"/>
          <p:cNvPicPr/>
          <p:nvPr/>
        </p:nvPicPr>
        <p:blipFill>
          <a:blip r:embed="rId1"/>
          <a:stretch/>
        </p:blipFill>
        <p:spPr>
          <a:xfrm rot="21466200">
            <a:off x="971640" y="1268280"/>
            <a:ext cx="720072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Living things are adapted to seasonal changes in their habitat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Seasonal changes in a garden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garden in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the summer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5" name="Picture 4" descr="mso9AC54"/>
          <p:cNvPicPr/>
          <p:nvPr/>
        </p:nvPicPr>
        <p:blipFill>
          <a:blip r:embed="rId1"/>
          <a:stretch/>
        </p:blipFill>
        <p:spPr>
          <a:xfrm>
            <a:off x="250920" y="1773360"/>
            <a:ext cx="4427280" cy="442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mso2D81E"/>
          <p:cNvPicPr/>
          <p:nvPr/>
        </p:nvPicPr>
        <p:blipFill>
          <a:blip r:embed="rId2"/>
          <a:stretch/>
        </p:blipFill>
        <p:spPr>
          <a:xfrm>
            <a:off x="4716360" y="1700280"/>
            <a:ext cx="428472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A woodland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woodland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in spr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9" name="Picture 4" descr="msoAA8ED"/>
          <p:cNvPicPr/>
          <p:nvPr/>
        </p:nvPicPr>
        <p:blipFill>
          <a:blip r:embed="rId1"/>
          <a:stretch/>
        </p:blipFill>
        <p:spPr>
          <a:xfrm>
            <a:off x="395280" y="1700280"/>
            <a:ext cx="4194360" cy="439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msoC89DF"/>
          <p:cNvPicPr/>
          <p:nvPr/>
        </p:nvPicPr>
        <p:blipFill>
          <a:blip r:embed="rId2"/>
          <a:stretch/>
        </p:blipFill>
        <p:spPr>
          <a:xfrm>
            <a:off x="4716360" y="1687680"/>
            <a:ext cx="41767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Arctic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2" name="Picture 4" descr="mso259F9"/>
          <p:cNvPicPr/>
          <p:nvPr/>
        </p:nvPicPr>
        <p:blipFill>
          <a:blip r:embed="rId1"/>
          <a:stretch/>
        </p:blipFill>
        <p:spPr>
          <a:xfrm>
            <a:off x="4788000" y="1557360"/>
            <a:ext cx="4106880" cy="4392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msoD5BCB"/>
          <p:cNvPicPr/>
          <p:nvPr/>
        </p:nvPicPr>
        <p:blipFill>
          <a:blip r:embed="rId2"/>
          <a:stretch/>
        </p:blipFill>
        <p:spPr>
          <a:xfrm>
            <a:off x="468360" y="1630440"/>
            <a:ext cx="41767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Seashor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5" name="Picture 4" descr="mso31A45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so22EF7"/>
          <p:cNvPicPr/>
          <p:nvPr/>
        </p:nvPicPr>
        <p:blipFill>
          <a:blip r:embed="rId2"/>
          <a:stretch/>
        </p:blipFill>
        <p:spPr>
          <a:xfrm>
            <a:off x="4716360" y="1557360"/>
            <a:ext cx="4195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31:09Z</dcterms:created>
  <dc:creator>Bella Griffiths</dc:creator>
  <dc:description/>
  <dc:language>en-US</dc:language>
  <cp:lastModifiedBy>RomaK</cp:lastModifiedBy>
  <dcterms:modified xsi:type="dcterms:W3CDTF">2015-09-04T10:41:22Z</dcterms:modified>
  <cp:revision>46</cp:revision>
  <dc:subject/>
  <dc:title>Slide 1</dc:title>
</cp:coreProperties>
</file>